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46D-35B5-41A5-BE06-69344630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16C-18D3-434C-BFC1-474304EC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AEC-5748-40E3-BC4B-1A0D6896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5D7-F56C-467F-8B6B-782C0F0F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BDC5-C6BA-4F51-BA22-73F30296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0F8-29B3-460A-A8A0-433F37A2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88A-77A9-4043-AB30-DB3514CC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FBFA-5C26-405E-9F3E-E7A7557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6DB-E4AE-4044-8663-2938ACB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3883-397E-4ED1-9C8C-BD4C895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C42-1522-4E2A-BE30-5452C19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F45-4D17-4828-9550-157136F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939-B04E-4F15-82BD-F29638E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8A81-E2F8-4812-A278-5BB646E3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A4D2-5525-4D50-BFDF-510FDB26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C888-36E3-44C5-8BD7-0A9C8572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C1FD-64E5-4987-87A6-44C5C4B1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DEC-F4EC-4F3C-AE50-B9E1288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584-E163-45A9-8B38-DED6FBCF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41E-6C46-4F4F-B08E-80BD118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0D1-99E6-4619-945A-381A422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30A-58AA-402D-9D7E-704EF95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DF2-4041-4C8F-B688-DB4858F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E36-598E-42BF-A697-D610D35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3A8-628B-4C53-9A02-E067A248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0B0-E2F0-449E-BC9C-0576AFBDF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e Two Heads Better Than One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periment Condu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t of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Chart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work better in group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mse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vary between boys and gir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boys and girls better at verbal or ma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orking in groups will improve the sc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the scores will improve for both boys and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lieve boys will be better at verbal and girls at m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individu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grou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ster sheet (group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sheets for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test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individual Range:             0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’ average individually:     3.4/12      28 1/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score as a group:            8/12       66 2/3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individual range:               0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average individually:      2.1/12      17.5%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score as a group:            3/12        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irst hypothesis was correct.  Both the boys and the girls improved as a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, however, improved much more drastically than the gir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econd hypothesis was in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 were better at verbal and the girls at ma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25Z</dcterms:created>
  <dc:creator>USD376</dc:creator>
  <dc:description/>
  <dc:language>en-US</dc:language>
  <cp:lastModifiedBy>Tom Vessey</cp:lastModifiedBy>
  <dcterms:modified xsi:type="dcterms:W3CDTF">2011-03-02T03:06:47Z</dcterms:modified>
  <cp:revision>6</cp:revision>
  <dc:subject/>
  <dc:title>Slide 1</dc:title>
</cp:coreProperties>
</file>